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3.wmf" ContentType="image/x-wmf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B55-D0B3-4C09-9CA1-0CB1E561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731-C6B5-47C4-A66A-B7A9BC74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A53-CC01-465E-A292-35C009AE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F56-D924-407F-A595-103938CE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699D-41D8-4AE6-9B68-EAAA2BC7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793-73B6-4C59-97C6-436B60A6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3302-0F1E-40CD-A881-E0E19404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0EDC-2F73-46B2-B2DF-FEF9B369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29E2-7B6F-4D1F-B9F6-9912F463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FF8B-943E-42CF-A28F-7C7C9C98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A68C-261D-4F8F-9C87-5167E3F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AA2-4B43-4495-A780-15DCDC33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AADC-2C5B-4653-82D0-771B06B2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47FA-A4BC-4AE1-B482-1AC4311D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DB47-5052-403C-B6C6-8ABF844D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16E1-CF8C-4FA1-9418-3B62FB80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8825-1F25-4870-9F65-5697D8E0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93A-C2B7-4A99-9978-F4B6D2F7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7A4-7619-43A2-852A-AFE73EBA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EA2-9068-4BD0-BA07-B59C315E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0F9-711A-4806-A8CF-38ADDEB1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1A7-9CF4-4996-91C0-5B0B4B26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7BB-7E53-48EF-9489-964A7F5E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134-AC78-4DBE-B4D5-90CEF7DB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4EA4-1CE7-4A4E-9945-FD4C70A6EB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29A-BB02-4E62-9D59-444F3FA6BE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0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mal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mperature Sca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mometers can be calibrated by placing them in thermal contact with an environment that remains at constant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 could be mixture of ice and water in thermal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commonly used is water and steam in thermal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lsius Sca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 of an ice-water mixture is defined as 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º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eezing 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 of a water-steam mixture is defined as 1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º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his i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boiling 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of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Distance between these points is divided into 100 segments or deg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 Therm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 readings are nearly independent of the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varies with temperature when maintaining a constant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83080" y="2017800"/>
            <a:ext cx="33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elvin Sca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pressure of a gas goes to zero, its temperature is –273.1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º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is temperatur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absolute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is is the zero point of the Kelvin sc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73.1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º C = 0 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o convert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– 273.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he size of the degree in the Kelvin scale is the same as the size of a Celsius deg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-Temperature Grap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gases extrapolate to the same temperature at zero pressure (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hat pressure do we mean her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emperature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bsolute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45120" y="264492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rn Definition of Kelvin Sca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in terms of two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ed upon by International Committee on Weights and Measures in 195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point is absolute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point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iple poi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ple point is the single point where water can exist as solid, liquid, and g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temperature and pres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rs at 0.0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º C and P = 4.58 mm H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rn Definition of Kelvin Sca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mperature of the triple point on the Kelvin scale is 273.16 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fore, the current definition of of the Kelvin is defined a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/273.16 of the temperature of the triple point of 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Kelv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mperatur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representative Kelvin temper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, this scale is logarithm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olute zero has never been reac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91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hrenheit Sca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common scale used in the 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erature of the freezing point is 3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erature of the boiling point is 21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180 divisions between the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aring Temperature Sca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2008080"/>
            <a:ext cx="44802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Recovering a Submerged Statue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70 kg ancient statue of Mr. Gandell lies at the bottom of the ocean. The volume of the statue is 3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nsity of seawater is  1.02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uch force is needed to lift i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rting Among Temperature Sca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057400" y="1981080"/>
          <a:ext cx="3770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81080"/>
                    <a:ext cx="3770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al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hermal expansion of an object is a consequence of the change in the average separation between its constituent atoms or molec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ordinary temperatures, molecules vibrate with a small ampl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emperature increases, the amplitude in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the overall object as a whole to exp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near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small changes in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coefficient of linear expansion, depends on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10.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average coefficients, they can vary somewhat with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28800" y="2514600"/>
          <a:ext cx="68835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68835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00200" y="32004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pplications of Thermal Expansion – Bimetallic Strip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os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imetallic str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etals expand differ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ce they have different coefficients of expa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97040" y="2017800"/>
          <a:ext cx="6742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2017800"/>
                    <a:ext cx="6742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ea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dimensions expand according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coefficient of area expa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828800" y="3429000"/>
          <a:ext cx="274320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27432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138720" y="2017800"/>
            <a:ext cx="182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olume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dimensions exp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liquids, the coefficient of volume expansion is given in the 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09680" y="2666880"/>
                <a:ext cx="35830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V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Δ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id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pplications of Thermal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yrex Gla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al stresses are smaller than for ordinary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a lev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ming the oceans will increase the volume of the oce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usual Behavior of Wa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emperature of water increases from 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ºC to 4 ºC, it contracts and its density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Above 4 ºC, water exhibits the expected expansion with increasing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Maximum density of water is 1000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at 4 º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306600" y="2017800"/>
            <a:ext cx="3524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as does not have a fixed volume or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container, the gas expands to fill the contai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gases at room temperature and pressure behave approximately as an ideal g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acteristics of an Ideal 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ion of atoms or molecules that move random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t no long-range force on one an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particle is individually point-lik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ying a negligible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al Phys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mal physics is the study of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hese affect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convenient to express the amount of gas in a given volume in terms of the number of moles,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mole is the amount of the substance that contains as many particles as there are atoms in 12 g of carbon-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5120" y="3276720"/>
                <a:ext cx="27432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ogadro’s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mber of particles in a mole is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vogadro’s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6.0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rticles / mo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so that 12 g of carbon contains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ss of an individual atom can be calcul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362320" y="5486400"/>
                <a:ext cx="35049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ogadro’s Number and Mas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s in grams of one Avogadro's number of an element is numerically the same as the mass of one atom of the element, expressed in atomic mass units, 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bon has a mass of 12 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g of carbon consists of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oms of carb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lds for molecules, al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Ga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V = n R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versal Gas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= 8.31 J / mol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= 0.0821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m / mol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equation of state for an ideal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Gas Law, Alternative Ver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 V = N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oltzmann’s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R /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1.3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2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/ 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 is the total number of molec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 = N /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 is the number of mo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 is the number of molec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tic Theory of Gases – Assump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mber of molecules in the gas is large and the average separation between them is large compared to their dimen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obey Newton’s laws of motion, but as a whole they move random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tic Theory of Gases – Assumption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interact only by short-range forces during elastic colli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make elastic collisions with the w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gas under consideration is a pure substance, all the molecules are iden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of an Ideal 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essure is proportional to the number of molecules per unit volume and to the average translational kinetic energy of a molec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76520" y="4724280"/>
          <a:ext cx="266688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724280"/>
                    <a:ext cx="26668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145120" y="2187720"/>
            <a:ext cx="38098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essure is proportional to the number of molecules per unit volume and to the average translational kinetic energy of the molec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can be increased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 the number of molecules per unit volume in the cont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 the average translational kinetic energy of the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ing the temperature of the g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lecular Interpretation of Temperat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erature is proportional to the average kinetic energy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otal kinetic energy is proportional to the absolute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666880" y="3276720"/>
                <a:ext cx="27432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90920" y="5811840"/>
                <a:ext cx="2666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al Physic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ed with the concepts of energy transfers between a system and its environment and the resulting temperature vari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torically, the development of thermodynamics paralleled the development of atomic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s itself with the physical and chemical transformations of matter in all of its forms: solid, liquid, and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monatomic gas, the KE is the only type of energy the molecules can h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rnal ener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polyatomic gas, additional possibilities for contributions to the internal energy are rotational and vibrational energy in the molec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362320" y="2819520"/>
                <a:ext cx="17524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the Molec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ed a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oot-mean-squa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rms)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a given temperature, lighter molecules move faster, on average, than heavier 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er molecules can more easily reach escape speed from the ear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209680" y="2895480"/>
                <a:ext cx="403884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rms Spee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3248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xwell Distribu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ystem of gas at a given temperature will exhibit a variety of sp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peeds are of intere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rob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45120" y="2736720"/>
            <a:ext cx="380988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xwell Distribu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every ga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mp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&lt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a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&lt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the temperature rises, these three speeds shift to the r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otal area under the curve on the graph equals the total number of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2,5,9,12,27,29,31,35,39,41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4,47,50,5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by which energy is exchanged between objects because of temperature difference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s are i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al conta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energy can be exchanged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al equilibr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xists when two objects in thermal contact with each other cease to exchange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Zeroth Law of Thermodynam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bjects A and B are separately in thermal equilibrium with a third object, C, then A and B are in thermal equilibrium with each o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a definition of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35120" y="2017800"/>
            <a:ext cx="5067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mperature from the Zeroth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objects in thermal equilibrium with each other are at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ame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property that determines whether or not an object is in thermal equilibrium with other ob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omete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to measure the temperature of an object or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use of physical properties that change with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physical properties can be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me of a liqu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ngth of a sol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sure of a gas held at constant volu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me of a gas held at constant press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ctric resistance of a condu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or of a very hot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ometer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ercury thermometer is an example of a common thermome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level of the mercury rises due to thermal expan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erature can be defined by the height of the mercury colum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51360" y="2017800"/>
            <a:ext cx="259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3:33:57Z</dcterms:created>
  <dc:creator>Marilyn Akins</dc:creator>
  <dc:description/>
  <dc:language>en-US</dc:language>
  <cp:lastModifiedBy>DCPS</cp:lastModifiedBy>
  <dcterms:modified xsi:type="dcterms:W3CDTF">2008-10-20T12:53:09Z</dcterms:modified>
  <cp:revision>18</cp:revision>
  <dc:subject/>
  <dc:title>Chapter 10</dc:title>
</cp:coreProperties>
</file>